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792913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2519280" y="539280"/>
            <a:ext cx="6623280" cy="407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33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066680" cy="6318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1066680" y="0"/>
            <a:ext cx="838440" cy="61740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5"/>
          <a:stretch/>
        </p:blipFill>
        <p:spPr>
          <a:xfrm>
            <a:off x="8381880" y="0"/>
            <a:ext cx="762120" cy="633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519280" y="539280"/>
            <a:ext cx="6623280" cy="8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33993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Pierluigi Feliciati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entury Gothic"/>
              </a:rPr>
              <a:t>       Roma, 16 febbraio 2007</a:t>
            </a: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0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21920" y="2923920"/>
            <a:ext cx="8218440" cy="31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I materiali Minerva 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ff3300"/>
                </a:solidFill>
                <a:latin typeface="Arial"/>
              </a:rPr>
              <a:t>per la qualità dei siti web cultural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Pierluigi Feliciati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 – </a:t>
            </a:r>
            <a:r>
              <a:rPr b="1" lang="en-GB" sz="2000" spc="-1" strike="noStrike">
                <a:solidFill>
                  <a:srgbClr val="3333cc"/>
                </a:solidFill>
                <a:latin typeface="Arial"/>
              </a:rPr>
              <a:t>Roma, 16 febbraio 2007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1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Arial"/>
              </a:rPr>
              <a:t>AIB-Sezione Lazio e The American University of Rom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5796000" cy="187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209520" y="1980720"/>
            <a:ext cx="872496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Arial"/>
              </a:rPr>
              <a:t>Capitolo </a:t>
            </a: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6640a"/>
                </a:solidFill>
                <a:latin typeface="Arial"/>
                <a:ea typeface="Times New Roman"/>
              </a:rPr>
              <a:t>Definizioni, principi e raccomandazioni generali</a:t>
            </a:r>
            <a:r>
              <a:rPr b="1" lang="it-IT" sz="2400" spc="-1" strike="noStrike">
                <a:solidFill>
                  <a:srgbClr val="0d38b1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</a:rPr>
              <a:t>Le complesse problematiche che nascono dall’incontro del mondo della cultura con le tecnologie di comunicazione del Web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38b1"/>
                </a:solidFill>
                <a:latin typeface="Arial"/>
              </a:rPr>
              <a:t>Definizioni</a:t>
            </a:r>
            <a:r>
              <a:rPr b="1" lang="it-IT" sz="20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sintetiche ed 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</a:rPr>
              <a:t>efficaci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 : categorie, nozioni e sogget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38b1"/>
                </a:solidFill>
                <a:latin typeface="Arial"/>
              </a:rPr>
              <a:t>Pr</a:t>
            </a:r>
            <a:r>
              <a:rPr b="1" lang="it-IT" sz="2000" spc="-1" strike="noStrike">
                <a:solidFill>
                  <a:srgbClr val="0d38b1"/>
                </a:solidFill>
                <a:latin typeface="Arial"/>
              </a:rPr>
              <a:t>incipi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 Generali, espressi come premesse di base in ogni progetto We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d38b1"/>
                </a:solidFill>
                <a:latin typeface="Arial"/>
              </a:rPr>
              <a:t>Politiche e strategie: raccomandazioni 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da seguire per la realizzazione di un progetto We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4000"/>
            </a:b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985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44807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6640a"/>
                </a:solidFill>
                <a:latin typeface="Arial"/>
              </a:rPr>
              <a:t>Definizion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1" marL="1168560" indent="-711360">
              <a:lnSpc>
                <a:spcPct val="93000"/>
              </a:lnSpc>
              <a:spcBef>
                <a:spcPts val="700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Soggetto Culturale Pubblico 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(</a:t>
            </a:r>
            <a:r>
              <a:rPr b="1" lang="en-GB" sz="2000" spc="-1" strike="noStrike">
                <a:solidFill>
                  <a:srgbClr val="f50909"/>
                </a:solidFill>
                <a:latin typeface="Arial"/>
                <a:ea typeface="Times New Roman"/>
              </a:rPr>
              <a:t>SCP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523880" indent="-609480">
              <a:lnSpc>
                <a:spcPct val="93000"/>
              </a:lnSpc>
              <a:spcBef>
                <a:spcPts val="601"/>
              </a:spcBef>
              <a:buClr>
                <a:srgbClr val="f5090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Identità del SCP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523880" indent="-609480">
              <a:lnSpc>
                <a:spcPct val="93000"/>
              </a:lnSpc>
              <a:spcBef>
                <a:spcPts val="601"/>
              </a:spcBef>
              <a:buClr>
                <a:srgbClr val="f5090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Categorie 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di SCP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523880" indent="-609480">
              <a:lnSpc>
                <a:spcPct val="93000"/>
              </a:lnSpc>
              <a:spcBef>
                <a:spcPts val="601"/>
              </a:spcBef>
              <a:buClr>
                <a:srgbClr val="f5090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Obiettivi del SCP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1168560" indent="-711360">
              <a:lnSpc>
                <a:spcPct val="93000"/>
              </a:lnSpc>
              <a:spcBef>
                <a:spcPts val="700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d38b1"/>
                </a:solidFill>
                <a:latin typeface="Arial"/>
                <a:ea typeface="Arial"/>
              </a:rPr>
              <a:t>Applicazione Web Culturale Pubblica 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(</a:t>
            </a:r>
            <a:r>
              <a:rPr b="1" lang="en-GB" sz="2000" spc="-1" strike="noStrike">
                <a:solidFill>
                  <a:srgbClr val="f50909"/>
                </a:solidFill>
                <a:latin typeface="Arial"/>
                <a:ea typeface="Times New Roman"/>
              </a:rPr>
              <a:t>AWCP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523880" indent="-609480">
              <a:lnSpc>
                <a:spcPct val="93000"/>
              </a:lnSpc>
              <a:spcBef>
                <a:spcPts val="601"/>
              </a:spcBef>
              <a:buClr>
                <a:srgbClr val="f50909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Obiettivi del AWCP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1168560" indent="-711360">
              <a:lnSpc>
                <a:spcPct val="93000"/>
              </a:lnSpc>
              <a:spcBef>
                <a:spcPts val="700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Utenti della </a:t>
            </a:r>
            <a:r>
              <a:rPr b="1" lang="it-IT" sz="2000" spc="-1" strike="noStrike">
                <a:solidFill>
                  <a:srgbClr val="0d38b1"/>
                </a:solidFill>
                <a:latin typeface="Arial"/>
              </a:rPr>
              <a:t>AWCP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523880" indent="-609480">
              <a:lnSpc>
                <a:spcPct val="93000"/>
              </a:lnSpc>
              <a:spcBef>
                <a:spcPts val="601"/>
              </a:spcBef>
              <a:buClr>
                <a:srgbClr val="f50909"/>
              </a:buClr>
              <a:buSzPct val="12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Bisogni degli Uten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2" marL="1523880" indent="-609480">
              <a:lnSpc>
                <a:spcPct val="93000"/>
              </a:lnSpc>
              <a:spcBef>
                <a:spcPts val="601"/>
              </a:spcBef>
              <a:buClr>
                <a:srgbClr val="f50909"/>
              </a:buClr>
              <a:buSzPct val="12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</a:rPr>
              <a:t>Percorsi per gli Uten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4000"/>
            </a:b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304560" y="1828440"/>
            <a:ext cx="8343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12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Soggetto Culturale Publico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  <a:ea typeface="Times New Roman"/>
              </a:rPr>
              <a:t>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  <a:ea typeface="Times New Roman"/>
              </a:rPr>
              <a:t>(</a:t>
            </a:r>
            <a:r>
              <a:rPr b="1" lang="en-GB" sz="1800" spc="-1" strike="noStrike">
                <a:solidFill>
                  <a:srgbClr val="f50909"/>
                </a:solidFill>
                <a:latin typeface="Arial"/>
                <a:ea typeface="Times New Roman"/>
              </a:rPr>
              <a:t>SCP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  <a:ea typeface="Times New Roman"/>
              </a:rPr>
              <a:t>)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Un’istituzione, organismo o progetto di interesse pubblico che abbia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quale finalità statuita quella di produrre, conservare, tutelare,valorizzare e diffondere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cultura in ogni settore (archivi, biblioteche, patrimonio mobile e immobile archeologico,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storico-artistico e scientifico, architettonico, etnografico e antropologico).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Arial"/>
              </a:rPr>
              <a:t>Applicazione Web Culturale Pubblica</a:t>
            </a:r>
            <a:r>
              <a:rPr b="1" lang="it-IT" sz="1800" spc="-1" strike="noStrike">
                <a:solidFill>
                  <a:srgbClr val="0d38b1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  <a:ea typeface="Times New Roman"/>
              </a:rPr>
              <a:t>(</a:t>
            </a:r>
            <a:r>
              <a:rPr b="1" lang="en-GB" sz="1800" spc="-1" strike="noStrike">
                <a:solidFill>
                  <a:srgbClr val="f50909"/>
                </a:solidFill>
                <a:latin typeface="Arial"/>
                <a:ea typeface="Times New Roman"/>
              </a:rPr>
              <a:t>AWCP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  <a:ea typeface="Times New Roman"/>
              </a:rPr>
              <a:t>)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O</a:t>
            </a: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gni realizzazione Web il cui contenuto riguardi il patrimonio culturale e scientifico nelle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sue articolazioni, e che realizzi almeno uno dei seguenti obiettivi: fornire informazione e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divulgazione culturale e scientifica, essere strumento per la formazione, l’educazione e la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ricerca scientifica.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3300"/>
                </a:solidFill>
                <a:latin typeface="Arial"/>
                <a:ea typeface="Times New Roman"/>
              </a:rPr>
              <a:t>Utenti dell’AWCP 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Si intende per utente colui, professionista o no, specialista o no, che utilizza in modo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casuale, saltuario, finalizzato, sistematico l’AWCP. Egli è portatore di bisogni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estremamente variabili che dipendono sia dal proprio profilo culturale, sia dalle proprie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  <a:p>
            <a:pPr marL="8128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aspirazioni di crescita culturale, sia infine dalle proprie curiosità, anche momentanee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  <a:ea typeface="Times New Roman"/>
              </a:rPr>
              <a:t>.</a:t>
            </a:r>
            <a:r>
              <a:rPr b="1" lang="en-GB" sz="1600" spc="-1" strike="noStrike">
                <a:solidFill>
                  <a:srgbClr val="0d38b1"/>
                </a:solidFill>
                <a:latin typeface="Garamond"/>
                <a:ea typeface="Times New Roman"/>
              </a:rPr>
              <a:t> </a:t>
            </a:r>
            <a:endParaRPr b="0" lang="en-US" sz="16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94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4000"/>
            </a:b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qualche definizion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84360" y="1268280"/>
            <a:ext cx="6362640" cy="503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38b1"/>
                </a:solidFill>
                <a:latin typeface="Arial"/>
              </a:rPr>
              <a:t>Archi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38b1"/>
                </a:solidFill>
                <a:latin typeface="Arial"/>
              </a:rPr>
              <a:t>Bibliote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38b1"/>
                </a:solidFill>
                <a:latin typeface="Arial"/>
              </a:rPr>
              <a:t>Patrimonio culturale diffuso sul territo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38b1"/>
                </a:solidFill>
                <a:latin typeface="Arial"/>
              </a:rPr>
              <a:t>Muse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38b1"/>
                </a:solidFill>
                <a:latin typeface="Arial"/>
                <a:ea typeface="Arial"/>
              </a:rPr>
              <a:t>Uffici di gestione e tute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38b1"/>
                </a:solidFill>
                <a:latin typeface="Arial"/>
                <a:ea typeface="Arial"/>
              </a:rPr>
              <a:t>Centri di ricerca e form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38b1"/>
                </a:solidFill>
                <a:latin typeface="Arial"/>
              </a:rPr>
              <a:t>Progetti cultur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751"/>
              </a:spcBef>
              <a:buClr>
                <a:srgbClr val="f5090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d38b1"/>
                </a:solidFill>
                <a:latin typeface="Arial"/>
              </a:rPr>
              <a:t>Esposizioni temporan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le categorie dei SCP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0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ff3300"/>
                </a:solidFill>
                <a:latin typeface="Arial"/>
              </a:rPr>
              <a:t>il modello</a:t>
            </a:r>
            <a:endParaRPr b="0" lang="en-US" sz="32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0" name=""/>
          <p:cNvSpPr/>
          <p:nvPr/>
        </p:nvSpPr>
        <p:spPr>
          <a:xfrm rot="8549400">
            <a:off x="4944600" y="2382120"/>
            <a:ext cx="1371600" cy="6858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81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920" y="762120"/>
            <a:ext cx="4572000" cy="3504960"/>
          </a:xfrm>
          <a:prstGeom prst="ellipse">
            <a:avLst/>
          </a:prstGeom>
          <a:noFill/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715000" y="4045320"/>
            <a:ext cx="3048120" cy="2201400"/>
          </a:xfrm>
          <a:prstGeom prst="ellipse">
            <a:avLst/>
          </a:prstGeom>
          <a:solidFill>
            <a:srgbClr val="ffffff"/>
          </a:solidFill>
          <a:ln cap="sq"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PPLICAZIONE</a:t>
            </a:r>
            <a:r>
              <a:rPr b="1" lang="it-IT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EB</a:t>
            </a:r>
            <a:r>
              <a:rPr b="1" lang="it-IT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ULTUR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1" lang="it-IT" sz="2000" spc="-1" strike="noStrike">
                <a:solidFill>
                  <a:srgbClr val="cc0000"/>
                </a:solidFill>
                <a:latin typeface="Arial"/>
              </a:rPr>
              <a:t>UBBL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14400" y="1353960"/>
            <a:ext cx="1447920" cy="10796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f5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IDENTITÀ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MISSIONE E OBIETTIVI DEL SCP</a:t>
            </a:r>
            <a:r>
              <a:rPr b="1" lang="it-IT" sz="2400" spc="-1" strike="noStrike">
                <a:solidFill>
                  <a:srgbClr val="0d38b1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743200" y="1475280"/>
            <a:ext cx="1523880" cy="824040"/>
          </a:xfrm>
          <a:prstGeom prst="rect">
            <a:avLst/>
          </a:prstGeom>
          <a:solidFill>
            <a:srgbClr val="ffffff"/>
          </a:solidFill>
          <a:ln cap="sq" w="28440">
            <a:solidFill>
              <a:srgbClr val="f509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SPECIFICITÀ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CATEGOR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3333cc"/>
                </a:solidFill>
                <a:latin typeface="Arial"/>
              </a:rPr>
              <a:t>di S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52480" y="3200400"/>
            <a:ext cx="1752840" cy="58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12 OBIETTIV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d38b1"/>
                </a:solidFill>
                <a:latin typeface="Arial"/>
                <a:ea typeface="Arial"/>
              </a:rPr>
              <a:t>DELL’AWC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5" idx="3"/>
            <a:endCxn id="74" idx="3"/>
          </p:cNvCxnSpPr>
          <p:nvPr/>
        </p:nvCxnSpPr>
        <p:spPr>
          <a:xfrm flipV="1">
            <a:off x="3519000" y="1887120"/>
            <a:ext cx="762840" cy="1618560"/>
          </a:xfrm>
          <a:prstGeom prst="curvedConnector5">
            <a:avLst>
              <a:gd name="adj1" fmla="val 128092"/>
              <a:gd name="adj2" fmla="val 49988"/>
              <a:gd name="adj3" fmla="val 128092"/>
            </a:avLst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73" idx="1"/>
            <a:endCxn id="75" idx="1"/>
          </p:cNvCxnSpPr>
          <p:nvPr/>
        </p:nvCxnSpPr>
        <p:spPr>
          <a:xfrm flipH="1" flipV="1" rot="10800000">
            <a:off x="898920" y="1893600"/>
            <a:ext cx="839160" cy="1612080"/>
          </a:xfrm>
          <a:prstGeom prst="curvedConnector5">
            <a:avLst>
              <a:gd name="adj1" fmla="val -25536"/>
              <a:gd name="adj2" fmla="val 49988"/>
              <a:gd name="adj3" fmla="val -25536"/>
            </a:avLst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3" idx="0"/>
            <a:endCxn id="74" idx="0"/>
          </p:cNvCxnSpPr>
          <p:nvPr/>
        </p:nvCxnSpPr>
        <p:spPr>
          <a:xfrm flipH="1" rot="16200000">
            <a:off x="2511000" y="450000"/>
            <a:ext cx="122400" cy="1867680"/>
          </a:xfrm>
          <a:prstGeom prst="curvedConnector5">
            <a:avLst>
              <a:gd name="adj1" fmla="val -175811"/>
              <a:gd name="adj2" fmla="val 49990"/>
              <a:gd name="adj3" fmla="val -175811"/>
            </a:avLst>
          </a:prstGeom>
          <a:ln w="28440">
            <a:solidFill>
              <a:srgbClr val="cc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5791320" y="1600200"/>
            <a:ext cx="3124080" cy="1676520"/>
          </a:xfrm>
          <a:prstGeom prst="wedgeRectCallout">
            <a:avLst>
              <a:gd name="adj1" fmla="val -9958"/>
              <a:gd name="adj2" fmla="val 11013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67280" y="1676520"/>
            <a:ext cx="3048120" cy="155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cc0000"/>
                </a:solidFill>
                <a:latin typeface="Arial"/>
              </a:rPr>
              <a:t>LINGUAGGIO DEI PATTER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PER LA QUALIT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delle APPLICAZIONI WE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Times New Roman"/>
              </a:rPr>
              <a:t>(accessibilità + usabilità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71" idx="5"/>
            <a:endCxn id="72" idx="1"/>
          </p:cNvCxnSpPr>
          <p:nvPr/>
        </p:nvCxnSpPr>
        <p:spPr>
          <a:xfrm>
            <a:off x="4206960" y="3792600"/>
            <a:ext cx="1954800" cy="542160"/>
          </a:xfrm>
          <a:prstGeom prst="straightConnector1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362320" y="2438280"/>
            <a:ext cx="533160" cy="533520"/>
          </a:xfrm>
          <a:prstGeom prst="sun">
            <a:avLst>
              <a:gd name="adj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84" idx="6"/>
            <a:endCxn id="72" idx="2"/>
          </p:cNvCxnSpPr>
          <p:nvPr/>
        </p:nvCxnSpPr>
        <p:spPr>
          <a:xfrm flipV="1">
            <a:off x="3900240" y="5146200"/>
            <a:ext cx="1786680" cy="416880"/>
          </a:xfrm>
          <a:prstGeom prst="straightConnector1">
            <a:avLst/>
          </a:prstGeom>
          <a:ln w="28440">
            <a:solidFill>
              <a:srgbClr val="cc0000"/>
            </a:solidFill>
            <a:miter/>
            <a:headEnd len="med" type="oval" w="med"/>
            <a:tailEnd len="med" type="triangle" w="med"/>
          </a:ln>
        </p:spPr>
      </p:cxnSp>
      <p:cxnSp>
        <p:nvCxnSpPr>
          <p:cNvPr id="85" name=""/>
          <p:cNvCxnSpPr>
            <a:stCxn id="84" idx="0"/>
            <a:endCxn id="71" idx="4"/>
          </p:cNvCxnSpPr>
          <p:nvPr/>
        </p:nvCxnSpPr>
        <p:spPr>
          <a:xfrm flipV="1">
            <a:off x="2514600" y="4304880"/>
            <a:ext cx="76680" cy="5580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84" name=""/>
          <p:cNvSpPr/>
          <p:nvPr/>
        </p:nvSpPr>
        <p:spPr>
          <a:xfrm>
            <a:off x="1143000" y="4876920"/>
            <a:ext cx="274320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ESIG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cc"/>
                </a:solidFill>
                <a:latin typeface="Arial"/>
              </a:rPr>
              <a:t>DEGLI UT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391520" y="3352680"/>
            <a:ext cx="685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571320" y="1844640"/>
            <a:ext cx="8001000" cy="4479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6640a"/>
                </a:solidFill>
                <a:latin typeface="Arial"/>
              </a:rPr>
              <a:t>Princip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d38b1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d38b1"/>
                </a:solidFill>
                <a:latin typeface="Arial"/>
              </a:rPr>
              <a:t>un </a:t>
            </a:r>
            <a:r>
              <a:rPr b="1" lang="it-IT" sz="1800" spc="-1" strike="noStrike">
                <a:solidFill>
                  <a:srgbClr val="f50909"/>
                </a:solidFill>
                <a:latin typeface="Arial"/>
              </a:rPr>
              <a:t>SCP</a:t>
            </a:r>
            <a:r>
              <a:rPr b="1" lang="it-IT" sz="1800" spc="-1" strike="noStrike">
                <a:solidFill>
                  <a:srgbClr val="044807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d38b1"/>
                </a:solidFill>
                <a:latin typeface="Arial"/>
              </a:rPr>
              <a:t>dovrebbe provvedere a: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lvl="1" marL="1333440" indent="-533160">
              <a:lnSpc>
                <a:spcPct val="103000"/>
              </a:lnSpc>
              <a:spcBef>
                <a:spcPts val="689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d38b1"/>
                </a:solidFill>
                <a:latin typeface="Arial"/>
                <a:ea typeface="Times New Roman"/>
              </a:rPr>
              <a:t>Adoperarsi per un’ampia diffusione della cultura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lvl="1" marL="1333440" indent="-533160">
              <a:lnSpc>
                <a:spcPct val="103000"/>
              </a:lnSpc>
              <a:spcBef>
                <a:spcPts val="689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d38b1"/>
                </a:solidFill>
                <a:latin typeface="Arial"/>
                <a:ea typeface="Times New Roman"/>
              </a:rPr>
              <a:t>Far parte di una comunità di soggetti culturali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lvl="1" marL="1333440" indent="-533160">
              <a:lnSpc>
                <a:spcPct val="103000"/>
              </a:lnSpc>
              <a:spcBef>
                <a:spcPts val="689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d38b1"/>
                </a:solidFill>
                <a:latin typeface="Arial"/>
                <a:ea typeface="Times New Roman"/>
              </a:rPr>
              <a:t>Approfittare dell’efficacia dei nuovi canali di comunicazione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lvl="1" marL="1333440" indent="-533160">
              <a:lnSpc>
                <a:spcPct val="103000"/>
              </a:lnSpc>
              <a:spcBef>
                <a:spcPts val="689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d38b1"/>
                </a:solidFill>
                <a:latin typeface="Arial"/>
                <a:ea typeface="Times New Roman"/>
              </a:rPr>
              <a:t>Adottare un uso consapevole del Web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  <a:p>
            <a:pPr lvl="1" marL="1333440" indent="-533160">
              <a:lnSpc>
                <a:spcPct val="103000"/>
              </a:lnSpc>
              <a:spcBef>
                <a:spcPts val="689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d38b1"/>
                </a:solidFill>
                <a:latin typeface="Arial"/>
                <a:ea typeface="Times New Roman"/>
              </a:rPr>
              <a:t>Considerare la qualità come risultato del processo di incontro tra Soggetti Culturali e gli Utenti </a:t>
            </a:r>
            <a:endParaRPr b="0" lang="en-US" sz="2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0336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6640a"/>
                </a:solidFill>
                <a:latin typeface="Arial"/>
              </a:rPr>
              <a:t>Raccomandazioni: p</a:t>
            </a:r>
            <a:r>
              <a:rPr b="0" lang="en-GB" sz="2800" spc="-1" strike="noStrike">
                <a:solidFill>
                  <a:srgbClr val="06640a"/>
                </a:solidFill>
                <a:latin typeface="Arial"/>
                <a:ea typeface="Times New Roman"/>
              </a:rPr>
              <a:t>olitiche e strategi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3360" indent="0">
              <a:lnSpc>
                <a:spcPct val="7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Partecipazione a portali e re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Riconoscibilità e visibilità del domini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Coordinamento tra flussi informativi interni e estern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Coordinamento tra i canali di comunicazione di un soggetto cultural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Progetto sviluppo e gestione di un sito we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Interoperabilità dei contenuti we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Rispetto di IPR e privacy nei contenu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80640" indent="-528120">
              <a:lnSpc>
                <a:spcPct val="110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Conservazione dei contenuti we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6640a"/>
                </a:solidFill>
                <a:latin typeface="Arial"/>
              </a:rPr>
              <a:t>La qualità del web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nel secondo capitolo del manuale si presentavano le problematiche complessive relative alla qualità del prodotto/servizio Web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definendo la nozione di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qualità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esentando le nozioni di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ccessibilità e usabilità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ntroducendo alle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tecniche e ai criteri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per la loro applicaz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roponendo il </a:t>
            </a:r>
            <a:r>
              <a:rPr b="0" lang="en-GB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odello dei pattern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come possibile guida ad una progettazione di qualità dei sit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6640a"/>
                </a:solidFill>
                <a:latin typeface="Arial"/>
              </a:rPr>
              <a:t>il moello dei pattern</a:t>
            </a:r>
            <a:endParaRPr b="0" lang="en-US" sz="36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a proposta di un modello pratico di “guida all’usabilità e accessibilità” era dovuta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lla scarsità di modelli semplici e rigorosi comprensibili anche ai non-specialisti ICT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lla difficoltà di applicazione dei consueti criteri di usabilità (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riteri di Progettazione Universale, 10 euristiche di Jakob Nielsen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er l’accessibilità, alla mancanza, poi colmata nel 2005, di un framework di valutazione stabil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09480" y="1904760"/>
            <a:ext cx="792504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6640a"/>
                </a:solidFill>
                <a:latin typeface="Arial"/>
              </a:rPr>
              <a:t>Che cosa è un Pattern ?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Un Pattern è una scheda dedicata a guidare alla soluzione di un problema tipico in un dato dominio, attraverso una triade composta da: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Contesto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: è l’insieme delle condizioni al contorno, l’ambiente nel quale si agisce, è l’insieme delle forze in azione delle quali il pattern deve tenere conto e che vincolano la scelta della soluzione,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Problema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: è una situazione che si presenta in maniera ricorrente nel contesto e che crea scompensi tra le forze in azione,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8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Soluzione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: è un algoritmo, una tecnologia, una struttura organizzativa, un metodo noto, un modello di riferimento che risolve in maniera ricorrente quel problema in quel contest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28600" y="1600200"/>
            <a:ext cx="89154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un progetto finanziato dalla Commissione Europea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nell’ambito del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programma IST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  (Tecnologie per la società dell’Informazione) e del Quinto Programma Quad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Nasce con l’obiettivo di facilitare la creazione di una comune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visione europea nella definizione delle azioni e dei programmi nel campo dell’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ccessibilità e fruibilità in rete dei beni cultural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Per questo obiettivo si è dato vita a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un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rete di Ministeri europei per la cultura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, coordinata dal ministero italiano, per coordinare la digitalizzazione del patrimonio scientifico e cultura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Arial"/>
              </a:rPr>
              <a:t>Il progetto ha avuto inizio a marzo 2002 ed è terminato a 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  <a:ea typeface="Times New Roman"/>
              </a:rPr>
              <a:t>febbraio 2005, ma con MINERVA Plus, MICHAEL e MINERVAeC h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stabilizzato e aggiornato la rete e le attivit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519280" y="53964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Min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09480" y="1700280"/>
            <a:ext cx="7925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6640a"/>
                </a:solidFill>
                <a:latin typeface="Arial"/>
              </a:rPr>
              <a:t>il catalogo dei patter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Nel Manuale MINERVA si propone un catalogo di Pattern organizzato secondo le categorie generali dell’Accessibilità e dell’Usabilità, nel qual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 identifica il problema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 cerca il problema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 sceglie il pattern (se esiste) che sembra adattarsi meglio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Pattern sono raggruppati in grandi categorie, tipiche dell’usabilità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ar percepire i contenu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esentare i contenu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ar navigare il sit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are effettuare ricerch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nteragire con gli utenti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09480" y="1700280"/>
            <a:ext cx="792504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6640a"/>
                </a:solidFill>
                <a:latin typeface="Arial"/>
              </a:rPr>
              <a:t>il catalogo dei pattern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Nel Manuale MINERVA si propone un catalogo di Pattern organizzato secondo le categorie generali dell’Accessibilità e dell’Usabilità, nel qual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 identifica il problema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 cerca il problema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cc"/>
                </a:solidFill>
                <a:latin typeface="Arial"/>
                <a:ea typeface="Times New Roman"/>
              </a:rPr>
              <a:t>Si sceglie il pattern (se esiste) che sembra adattarsi meglio</a:t>
            </a:r>
            <a:endParaRPr b="0" lang="en-US" sz="18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 Pattern sono raggruppati in grandi categorie, tipiche dell’usabilità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ar percepire i contenu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esentare i contenut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ar navigare il sit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Fare effettuare ricerch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73000"/>
              </a:lnSpc>
              <a:spcBef>
                <a:spcPts val="799"/>
              </a:spcBef>
              <a:buClr>
                <a:srgbClr val="044807"/>
              </a:buClr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Interagire con gli utenti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6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3600"/>
            </a:br>
            <a:r>
              <a:rPr b="1" lang="en-GB" sz="3600" spc="-1" strike="noStrike">
                <a:solidFill>
                  <a:srgbClr val="0d38b1"/>
                </a:solidFill>
                <a:latin typeface="Arial"/>
              </a:rPr>
              <a:t>        </a:t>
            </a:r>
            <a:r>
              <a:rPr b="1" i="1" lang="en-GB" sz="2400" spc="-1" strike="noStrike">
                <a:solidFill>
                  <a:srgbClr val="ff0000"/>
                </a:solidFill>
                <a:latin typeface="Arial"/>
              </a:rPr>
              <a:t>Manuale per la qualità: contenuti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3520" y="549000"/>
            <a:ext cx="80755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eb201b"/>
                </a:solidFill>
                <a:latin typeface="Garamond"/>
              </a:rPr>
              <a:t>il Modello MINERVA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Obiettivi e Categori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557360"/>
            <a:ext cx="777096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il terzo capitolo del Manuale sviluppa l’incrocio tra definizioni, principi e raccomandazioni del capitolo 1 e il modello per la qualità del web del capitolo 2, proponendo un  approccio specifico alla qualità per i </a:t>
            </a:r>
            <a:r>
              <a:rPr b="1" lang="it-IT" sz="2800" spc="-1" strike="noStrike">
                <a:solidFill>
                  <a:srgbClr val="eb201b"/>
                </a:solidFill>
                <a:latin typeface="Arial"/>
              </a:rPr>
              <a:t>Soggetti Culturali.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8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3333cc"/>
                </a:solidFill>
                <a:latin typeface="Arial"/>
              </a:rPr>
              <a:t>In particolare, si basa sull’intersezione tra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obiettivi del sito Web cultur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identità e missioni delle 8 categorie di soggetti culturali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71600" y="40428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12 OBIETTIVI per il </a:t>
            </a:r>
            <a:br>
              <a:rPr sz="2800"/>
            </a:b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WEB CULTURALE PUBBLICO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19040" y="1700280"/>
            <a:ext cx="830592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appresentar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l’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identità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l SCP </a:t>
            </a:r>
            <a:r>
              <a:rPr b="1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endere trasparente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l’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attività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el SCP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Rendere trasparent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la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missione dell’AWCP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volgere un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ruolo efficace nei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network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i settore </a:t>
            </a:r>
            <a:r>
              <a:rPr b="1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esentare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norme e standard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i settore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iffonder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contenuti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culturali </a:t>
            </a:r>
            <a:r>
              <a:rPr b="1" lang="it-IT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ostener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il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turismo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cultural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ffrir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servizi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didattici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ffrire 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servizi per la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ricerca scientifica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ffrir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servizi ai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professionisti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del settor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Offrire servizi per le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prenotazioni e gli acquisti</a:t>
            </a: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lvl="1" marL="990720" indent="-533520" algn="just">
              <a:lnSpc>
                <a:spcPct val="93000"/>
              </a:lnSpc>
              <a:spcBef>
                <a:spcPts val="624"/>
              </a:spcBef>
              <a:buClr>
                <a:srgbClr val="f50909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omuovere </a:t>
            </a:r>
            <a:r>
              <a:rPr b="1" lang="it-IT" sz="2000" spc="-1" strike="noStrike">
                <a:solidFill>
                  <a:srgbClr val="eb201b"/>
                </a:solidFill>
                <a:latin typeface="Arial"/>
                <a:ea typeface="Times New Roman"/>
              </a:rPr>
              <a:t>comunità telematiche</a:t>
            </a:r>
            <a:r>
              <a:rPr b="1" lang="it-IT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 di settore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rot="16189800">
            <a:off x="6910200" y="4757040"/>
            <a:ext cx="22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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 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  <a:ea typeface="Times New Roman"/>
              </a:rPr>
              <a:t>obiettivi di 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gli OBIETTIVI</a:t>
            </a:r>
            <a:br>
              <a:rPr sz="2400"/>
            </a:b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del WEB CULTURALE PUBBLICO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138040"/>
            <a:ext cx="7770960" cy="327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ognuno dei </a:t>
            </a:r>
            <a:r>
              <a:rPr b="1" lang="it-IT" sz="2800" spc="-1" strike="noStrike">
                <a:solidFill>
                  <a:srgbClr val="ff0000"/>
                </a:solidFill>
                <a:latin typeface="Arial"/>
              </a:rPr>
              <a:t>12 obiettivi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</a:rPr>
              <a:t> delle AWCP viene trattato sul Manuale con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8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una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definizione generale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3333cc"/>
                </a:solidFill>
                <a:latin typeface="Arial"/>
              </a:rPr>
              <a:t>un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commento esteso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Garamond"/>
              </a:rPr>
              <a:t>gli OBIETTIVI del WEB CULTURALE PUBBLICO</a:t>
            </a:r>
            <a:endParaRPr b="0" lang="en-US" sz="2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Obiettivo 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5- Presentare norme e standard di settor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Nell'ambito di un AWCP è comunque consigliabile un riferimento aggiornato alla normativa di base del settore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(...)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Nel caso di portali oppure di siti Web di organi culturali di livello regionale o nazionale, </a:t>
            </a:r>
            <a:r>
              <a:rPr b="1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è</a:t>
            </a:r>
            <a:r>
              <a:rPr b="1" lang="en-GB" sz="2000" spc="-1" strike="noStrike">
                <a:solidFill>
                  <a:srgbClr val="000099"/>
                </a:solidFill>
                <a:latin typeface="Arial"/>
                <a:ea typeface="Arial"/>
              </a:rPr>
              <a:t> buona norma offrire agli utenti il quadro – più possibile completo – della normativa e degli standard in uso in quel particolare settore culturale.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A seconda del quadro complessivo degli obiettivi dell’applicazione e della missione del SCP in rapporto all’utenza, 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si possono individuare diversi livelli 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di servizio 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(...):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il livello minimo è l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’elenc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 algn="just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il secondo è la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lista 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delle norme con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Arial"/>
              </a:rPr>
              <a:t>link al testo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Arial"/>
              </a:rPr>
              <a:t> delle norme;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il terzo consiste in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  <a:ea typeface="Times New Roman"/>
              </a:rPr>
              <a:t>banche dati strutturate</a:t>
            </a:r>
            <a:r>
              <a:rPr b="0" lang="it-IT" sz="2000" spc="-1" strike="noStrike">
                <a:solidFill>
                  <a:srgbClr val="000099"/>
                </a:solidFill>
                <a:latin typeface="Arial"/>
                <a:ea typeface="Times New Roman"/>
              </a:rPr>
              <a:t>, nelle quali sia possibile una ricerca delle norme in base ai loro estremi, a parole contenute nei nel titolo, nelle intestazioni o nel testo degli articoli. 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850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10 principi per la qualità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Derivati dal lavoro del gruppo europeo sulla qualità del web culturale e presentati a Parma nel novembre 2003, si tratta di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10 parole chiave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che possono fungere da riferimento per gli operatori culturali che si avvicinano al web o vogliono valutarne la qualità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n una prima fase sono stati proposti in forma sintetica, accompagnati da un breve commento e diffusi su 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artoline e manifesti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Poi, il gruppo di lavoro europeo coordinatod a Belgio e UK, ha costruito su questo schem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 secondo Manuale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già tradotto in 8 lingue e presto in italiano, accompagnando all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ichiarazioni di principio 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commenti più estesi e liste di punti di controllo per la verifica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 sito Web di qualità dev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trasparente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, definendo chiaramente sia l'identità e gli obiettivi del sito Web sia l'organismo responsabile della sua gestione;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selezionare, digitalizzare, indicizzare, presentare e controllare i contenuti per creare un sito Web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efficace 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per tutti gli utenti;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 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implementare linee guida per le politiche di qualità del servizio per * assicurare che il sito Web venga adeguatamente </a:t>
            </a:r>
            <a:r>
              <a:rPr b="0" lang="it-IT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mantenuto e aggiornato</a:t>
            </a:r>
            <a:r>
              <a:rPr b="0" lang="it-IT" sz="2800" spc="-1" strike="noStrike">
                <a:solidFill>
                  <a:srgbClr val="000099"/>
                </a:solidFill>
                <a:latin typeface="Arial"/>
                <a:ea typeface="Times New Roman"/>
              </a:rPr>
              <a:t>;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7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 sito Web di qualità dev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accessibile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a tutti gli utenti, indipendentemente dalla tecnologie utilizzata o dalle loro disabilità, inclusi gli strumenti di navigazione, il contenuto e gli elementi interattivi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entrato sull'utente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tenendo conto delle sue esigenze, garantendo pertinenza della risposta e facilità d'uso attraverso meccanismi di valutazione e feedback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eattivo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, consentendo agli utenti di contattare il sito e ricevere un'adeguata risposta. Se necessario, incoraggiare i quesiti, la condivisione dei dati e la discussione con e tra gli utenti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850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 sito Web di qualità dev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consapevole dell'importanza del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ultilinguismo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fornendo un livello minimo di accesso in più di una lingua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pegnarsi 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ssere interoperabile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all'interno delle reti culturali per consentire agli utenti di localizzare facilmente i contenuti e i servizi che rispondono alle loro necessità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gestito nel rispetto dell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norme legali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come il diritto di proprietà intellettuale e la riservatezza e indicare chiaramente i termini e le condizioni di utilizzo del sito Web e dei suoi contenuti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dottare strategie e standard per assicurare che il sito Web e i suoi contenuti vengano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onservati a lungo termi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600200"/>
            <a:ext cx="8915400" cy="46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a operato su due livell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l livello politico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per garantire la collaborazione tra gli Stati membri attraverso i Ministeri che hanno competenza sul patrimonio culturale, e tra questi e la Commissione Europe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l livello tecnico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 per la creazione di una comune piattaforma europea basata su raccomandazioni e linee guida, formati di metadati, standard per la digitalizzazione, la conservazione e accessibilità a lungo termine dei contenuti, nel quadro delle garanzie di qualit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519280" y="53964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Min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58500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 sito Web di qualità dev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consapevole dell'importanza del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multilinguismo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fornendo un livello minimo di accesso in più di una lingua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impegnarsi 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essere interoperabile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all'interno delle reti culturali per consentire agli utenti di localizzare facilmente i contenuti e i servizi che rispondono alle loro necessità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essere gestito nel rispetto dell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norme legali</a:t>
            </a: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 come il diritto di proprietà intellettuale e la riservatezza e indicare chiaramente i termini e le condizioni di utilizzo del sito Web e dei suoi contenuti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85000" indent="-585000">
              <a:lnSpc>
                <a:spcPct val="83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Arial"/>
                <a:ea typeface="Times New Roman"/>
              </a:rPr>
              <a:t>adottare strategie e standard per assicurare che il sito Web e i suoi contenuti vengano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conservati a lungo termi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5788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e definizioni dei dieci principi non bastano però a guidare nella loro applicazione, valutando la conformità ad essi di un sito web . Il Manuale ha l'obiettivo di trattarli esaustivamente, fornendo per ciascuno di essi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788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 commento,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con le interpretazioni, le informazioni di base e i criteri adottati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788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a serie di criteri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da applicare per valutare se un sito web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rispetta tale principio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788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a lista di controllo,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basata sui suddetti criteri, per testare il sito web;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5788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una serie di test pratici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costituiti da domande cui il responsabile del sito può rispondere per valutare meglio la conformità del sito ai principi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i 10 principi e il secondo Manual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60336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Un sito web culturale dovrebbe essere valutato alla luce di ciascuno dei dieci principi, uno per uno.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336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'importanza di ciascun principio varia in funzione delle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diverse fasi del progetto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 – alcuni sono più importanti durante la fase di progettazione, altri quando il progetto è quasi del tutto realizzato, etc. Per una guida su questo, è stata elaborata una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tabella delle priorità </a:t>
            </a: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per i principi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336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e fasi proposte nel manuale sono: </a:t>
            </a:r>
            <a:r>
              <a:rPr b="0" lang="it-IT" sz="2400" spc="-1" strike="noStrike">
                <a:solidFill>
                  <a:srgbClr val="ff3300"/>
                </a:solidFill>
                <a:latin typeface="Arial"/>
                <a:ea typeface="Times New Roman"/>
              </a:rPr>
              <a:t>Pianificazione della progettazione, Progettazione del sito, Selezione dei contenuti, Digitalizzazione, Conservazione   delle risorse digitali, Creazione e raccolta dei metadati, Implementazione, Pubblicazione, Gestione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600" y="476280"/>
            <a:ext cx="77724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000"/>
                </a:solidFill>
                <a:latin typeface="Garamond"/>
              </a:rPr>
              <a:t>dai manuali al Prototipo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95360" y="1483920"/>
            <a:ext cx="8151840" cy="461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Il prototipo Museo&amp;Web e i successivi prototipi, di cui vi parlerà Maria Teresa Natale, nasce dall’esigenza di offrire una piattaforma che raccogliesse tutti gli strumenti e i materiali raccolti nei vari documenti MINERVA in merito alla qualità web, integrandoli con una proposta di modello/struttura per un sito web di museo di piccole/medie dimensioni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L’idea è sempre quella di rendere accessibili e usabili le idee e le conoscenze, perché possano essere strumenti di lavoro, perché possano essere una base per ulteriori riflessioni e strumenti, perché possano essere anche modificati e ripensati.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6094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47840" y="1600200"/>
            <a:ext cx="8696160" cy="51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La rete MINERVA, oltre alla funzione di coordinamento, ha elaborato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numerosi strumenti concreti</a:t>
            </a:r>
            <a:r>
              <a:rPr b="0" lang="en-US" sz="2600" spc="-1" strike="noStrike">
                <a:solidFill>
                  <a:srgbClr val="000080"/>
                </a:solidFill>
                <a:latin typeface="Arial"/>
              </a:rPr>
              <a:t>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Linee guida tecniche per i programmi di creazione di contenuti digi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uida alle buone prati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Relazioni annuali sulla digitalizzazione negli Stati Memb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Handbook on cost reduction in digitis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ultilingualism and Thesaur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Guide to IPR and other legal issu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Modello di descrizione delle collezioni digi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9280" y="53964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Min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47840" y="1440000"/>
            <a:ext cx="8696160" cy="49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Oltre a questo elenco, ecco gli strumenti per </a:t>
            </a:r>
            <a:r>
              <a:rPr b="0" lang="en-US" sz="2800" spc="-1" strike="noStrike">
                <a:solidFill>
                  <a:srgbClr val="ff0000"/>
                </a:solidFill>
                <a:latin typeface="Trebuchet MS"/>
              </a:rPr>
              <a:t>la qualità dei siti Web culturali</a:t>
            </a:r>
            <a:r>
              <a:rPr b="0" lang="en-US" sz="2800" spc="-1" strike="noStrike">
                <a:solidFill>
                  <a:srgbClr val="333399"/>
                </a:solidFill>
                <a:latin typeface="Trebuchet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•</a:t>
            </a: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Manuale per la qualità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dei siti Web pubblici culturali (en,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•</a:t>
            </a: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i 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10 principi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per la qualità di un sito Web cultur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•</a:t>
            </a: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Quality Principles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for cultural Web sites: a handbook (</a:t>
            </a: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ar- ee - en  - el  - fr - hu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•</a:t>
            </a:r>
            <a:r>
              <a:rPr b="0" lang="en-US" sz="2500" spc="-1" strike="noStrike">
                <a:solidFill>
                  <a:srgbClr val="333399"/>
                </a:solidFill>
                <a:latin typeface="Trebuchet MS"/>
              </a:rPr>
              <a:t>	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kit-prototipo </a:t>
            </a:r>
            <a:r>
              <a:rPr b="0" lang="en-US" sz="2500" spc="-1" strike="noStrike">
                <a:solidFill>
                  <a:srgbClr val="ff0000"/>
                </a:solidFill>
                <a:latin typeface="Trebuchet MS"/>
              </a:rPr>
              <a:t>Museo&amp;Web</a:t>
            </a: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 (en, fr,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Altri prototipi/modelli (ne parleremo più tardi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Arial"/>
              </a:rPr>
              <a:t>Tutto è scaricabile gratuitamente dal sito di MINER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86"/>
              </a:spcBef>
              <a:spcAft>
                <a:spcPts val="286"/>
              </a:spcAft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</a:rPr>
              <a:t>www.minervaeurop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9280" y="53964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Min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47840" y="1440000"/>
            <a:ext cx="8696160" cy="444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Obiettivi del WG5 sulla QUALITA’ PER IL WE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definire i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riteri di qualità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 per i contenuti digital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ncoraggiare l’adozione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 dei criteri di qualità per lo sviluppo dei siti web cultu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favorire le iniziative proposte dalla Commissione Europea sulla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digitalizzazione nelle politiche nazion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intraprendere azioni di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ormazione</a:t>
            </a:r>
            <a:r>
              <a:rPr b="0" lang="en-GB" sz="2800" spc="-1" strike="noStrike">
                <a:solidFill>
                  <a:srgbClr val="000080"/>
                </a:solidFill>
                <a:latin typeface="Arial"/>
              </a:rPr>
              <a:t>, per promuovere la conoscenza delle problematiche multicultural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9280" y="53964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Garamond"/>
              </a:rPr>
              <a:t>Miner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4000" y="1557000"/>
            <a:ext cx="7770600" cy="46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  <a:ea typeface="Arial"/>
              </a:rPr>
              <a:t>le tappe principali: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0909"/>
                </a:solidFill>
                <a:latin typeface="Arial"/>
                <a:ea typeface="Arial"/>
              </a:rPr>
              <a:t>Marzo 2002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avvi</a:t>
            </a:r>
            <a:r>
              <a:rPr b="0" lang="en-US" sz="2000" spc="-1" strike="noStrike">
                <a:solidFill>
                  <a:srgbClr val="0d38b1"/>
                </a:solidFill>
                <a:latin typeface="Arial"/>
                <a:ea typeface="Arial"/>
              </a:rPr>
              <a:t>o del progetto Minerva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0909"/>
                </a:solidFill>
                <a:latin typeface="Arial"/>
                <a:ea typeface="Arial"/>
              </a:rPr>
              <a:t>Maggio 2002    </a:t>
            </a:r>
            <a:r>
              <a:rPr b="0" lang="en-US" sz="2000" spc="-1" strike="noStrike">
                <a:solidFill>
                  <a:srgbClr val="0d38b1"/>
                </a:solidFill>
                <a:latin typeface="Arial"/>
                <a:ea typeface="Arial"/>
              </a:rPr>
              <a:t>attivazione del Gruppo di Lavoro</a:t>
            </a:r>
            <a:r>
              <a:rPr b="1" lang="en-GB" sz="2000" spc="-1" strike="noStrike">
                <a:solidFill>
                  <a:srgbClr val="0d38b1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d38b1"/>
                </a:solidFill>
                <a:latin typeface="Arial"/>
                <a:ea typeface="Arial"/>
              </a:rPr>
              <a:t>sulla qualità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50909"/>
                </a:solidFill>
                <a:latin typeface="Arial"/>
                <a:ea typeface="Arial"/>
              </a:rPr>
              <a:t>Febbraio 2003 </a:t>
            </a:r>
            <a:r>
              <a:rPr b="0" lang="en-GB" sz="2000" spc="-1" strike="noStrike">
                <a:solidFill>
                  <a:srgbClr val="3333cc"/>
                </a:solidFill>
                <a:latin typeface="Arial"/>
                <a:ea typeface="Arial"/>
              </a:rPr>
              <a:t>pri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Arial"/>
              </a:rPr>
              <a:t>mo </a:t>
            </a:r>
            <a:r>
              <a:rPr b="0" i="1" lang="en-GB" sz="2000" spc="-1" strike="noStrike">
                <a:solidFill>
                  <a:srgbClr val="0d38b1"/>
                </a:solidFill>
                <a:latin typeface="Arial"/>
                <a:ea typeface="Arial"/>
              </a:rPr>
              <a:t>Deliverable</a:t>
            </a:r>
            <a:r>
              <a:rPr b="0" lang="fr-BE" sz="2000" spc="-1" strike="noStrike">
                <a:solidFill>
                  <a:srgbClr val="0d38b1"/>
                </a:solidFill>
                <a:latin typeface="Arial"/>
                <a:ea typeface="Arial"/>
              </a:rPr>
              <a:t> sulla Qualità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50909"/>
                </a:solidFill>
                <a:latin typeface="Arial"/>
                <a:ea typeface="Times New Roman"/>
              </a:rPr>
              <a:t>Novembre 2003  </a:t>
            </a:r>
            <a:r>
              <a:rPr b="0" lang="fr-BE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</a:t>
            </a:r>
            <a:r>
              <a:rPr b="0" lang="en-GB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ubblicazione dell’</a:t>
            </a:r>
            <a:r>
              <a:rPr b="0" i="1" lang="fr-BE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Handbook for quality</a:t>
            </a:r>
            <a:r>
              <a:rPr b="0" lang="fr-BE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e dei 10 principi per la qualità (</a:t>
            </a:r>
            <a:r>
              <a:rPr b="1" lang="fr-BE" sz="2000" spc="-1" strike="noStrike">
                <a:solidFill>
                  <a:srgbClr val="f50909"/>
                </a:solidFill>
                <a:latin typeface="Arial"/>
                <a:ea typeface="Times New Roman"/>
              </a:rPr>
              <a:t>Parma Conference</a:t>
            </a:r>
            <a:r>
              <a:rPr b="0" lang="fr-BE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)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Febbraio 2004</a:t>
            </a:r>
            <a:r>
              <a:rPr b="0" lang="fr-BE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 pubblicazione a stampa della versione italiana, </a:t>
            </a:r>
            <a:r>
              <a:rPr b="0" i="1" lang="fr-BE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Manuale per la qualità dei siti web pubblici culturali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Marzo 2005</a:t>
            </a:r>
            <a:r>
              <a:rPr b="0" lang="fr-BE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pubblicazione dei </a:t>
            </a:r>
            <a:r>
              <a:rPr b="0" i="1" lang="en-US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Quality Principles for cultural Web sites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estate 2005 –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Times New Roman"/>
              </a:rPr>
              <a:t>prima versione del prototipo Museo&amp;Web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Times New Roman"/>
              </a:rPr>
              <a:t>Dicembre 2005</a:t>
            </a:r>
            <a:r>
              <a:rPr b="0" lang="en-US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 pubblicazione della seconda versione aggiornata del </a:t>
            </a:r>
            <a:r>
              <a:rPr b="0" i="1" lang="en-US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Manuale </a:t>
            </a:r>
            <a:r>
              <a:rPr b="0" lang="en-US" sz="2000" spc="-1" strike="noStrike">
                <a:solidFill>
                  <a:srgbClr val="0d38b1"/>
                </a:solidFill>
                <a:latin typeface="Arial"/>
                <a:ea typeface="Times New Roman"/>
              </a:rPr>
              <a:t>italiano</a:t>
            </a:r>
            <a:endParaRPr b="0" lang="en-US" sz="20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837720" y="609480"/>
            <a:ext cx="8055000" cy="87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         </a:t>
            </a:r>
            <a:br>
              <a:rPr sz="4000"/>
            </a:b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Attività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buClr>
                <a:srgbClr val="0d38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d38b1"/>
                </a:solidFill>
                <a:latin typeface="Arial"/>
                <a:ea typeface="Arial"/>
              </a:rPr>
              <a:t>Un Gruppo di Lavoro effettivamente europeo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d38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400" spc="-1" strike="noStrike">
                <a:solidFill>
                  <a:srgbClr val="0d38b1"/>
                </a:solidFill>
                <a:latin typeface="Arial"/>
                <a:ea typeface="Arial"/>
              </a:rPr>
              <a:t>la diffusione </a:t>
            </a:r>
            <a:r>
              <a:rPr b="0" lang="fr-BE" sz="2400" spc="-1" strike="noStrike">
                <a:solidFill>
                  <a:srgbClr val="0d38b1"/>
                </a:solidFill>
                <a:latin typeface="Arial"/>
                <a:ea typeface="Arial"/>
              </a:rPr>
              <a:t>dei risultati </a:t>
            </a:r>
            <a:r>
              <a:rPr b="1" lang="fr-BE" sz="2400" spc="-1" strike="noStrike">
                <a:solidFill>
                  <a:srgbClr val="0d38b1"/>
                </a:solidFill>
                <a:latin typeface="Arial"/>
                <a:ea typeface="Arial"/>
              </a:rPr>
              <a:t>in 8 lingue </a:t>
            </a:r>
            <a:r>
              <a:rPr b="0" lang="fr-BE" sz="2400" spc="-1" strike="noStrike">
                <a:solidFill>
                  <a:srgbClr val="0d38b1"/>
                </a:solidFill>
                <a:latin typeface="Arial"/>
                <a:ea typeface="Arial"/>
              </a:rPr>
              <a:t>(compreso l’arabo)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d38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d38b1"/>
                </a:solidFill>
                <a:latin typeface="Arial"/>
                <a:ea typeface="Arial"/>
              </a:rPr>
              <a:t>Un modello stabile per la qualità, base del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50909"/>
                </a:solidFill>
                <a:latin typeface="Arial"/>
                <a:ea typeface="Arial"/>
              </a:rPr>
              <a:t>Manuale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50909"/>
                </a:solidFill>
                <a:latin typeface="Arial"/>
                <a:ea typeface="Arial"/>
              </a:rPr>
              <a:t>per la</a:t>
            </a:r>
            <a:r>
              <a:rPr b="1" lang="en-GB" sz="24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en-GB" sz="2400" spc="-1" strike="noStrike">
                <a:solidFill>
                  <a:srgbClr val="f50909"/>
                </a:solidFill>
                <a:latin typeface="Arial"/>
                <a:ea typeface="Arial"/>
              </a:rPr>
              <a:t>Qualità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0d38b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38b1"/>
                </a:solidFill>
                <a:latin typeface="Arial"/>
              </a:rPr>
              <a:t>Un set di </a:t>
            </a:r>
            <a:r>
              <a:rPr b="1" lang="en-GB" sz="2400" spc="-1" strike="noStrike">
                <a:solidFill>
                  <a:srgbClr val="0d38b1"/>
                </a:solidFill>
                <a:latin typeface="Arial"/>
              </a:rPr>
              <a:t>principi e criteri </a:t>
            </a:r>
            <a:r>
              <a:rPr b="0" lang="en-GB" sz="2400" spc="-1" strike="noStrike">
                <a:solidFill>
                  <a:srgbClr val="0d38b1"/>
                </a:solidFill>
                <a:latin typeface="Arial"/>
              </a:rPr>
              <a:t>da applicare nei differenti livelli di sviluppo di un sito web culturale: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38b1"/>
                </a:solidFill>
                <a:latin typeface="Arial"/>
              </a:rPr>
              <a:t>per lo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f50909"/>
                </a:solidFill>
                <a:latin typeface="Arial"/>
              </a:rPr>
              <a:t>sviluppo di nuovi siti web culturali 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38b1"/>
                </a:solidFill>
                <a:latin typeface="Arial"/>
              </a:rPr>
              <a:t>per </a:t>
            </a:r>
            <a:r>
              <a:rPr b="1" lang="en-GB" sz="2400" spc="-1" strike="noStrike">
                <a:solidFill>
                  <a:srgbClr val="f50909"/>
                </a:solidFill>
                <a:latin typeface="Arial"/>
              </a:rPr>
              <a:t>misurare la qualità di un progetto</a:t>
            </a:r>
            <a:r>
              <a:rPr b="0" lang="en-GB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d38b1"/>
                </a:solidFill>
                <a:latin typeface="Arial"/>
              </a:rPr>
              <a:t>in via di sviluppo, per individuare componenti poco efficac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  <a:p>
            <a:pPr lvl="2" marL="1143000" indent="-228600">
              <a:lnSpc>
                <a:spcPct val="83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d38b1"/>
                </a:solidFill>
                <a:latin typeface="Arial"/>
              </a:rPr>
              <a:t>per </a:t>
            </a:r>
            <a:r>
              <a:rPr b="1" lang="en-GB" sz="2400" spc="-1" strike="noStrike">
                <a:solidFill>
                  <a:srgbClr val="f50909"/>
                </a:solidFill>
                <a:latin typeface="Arial"/>
              </a:rPr>
              <a:t>valutare e validare progetti completi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8380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4000"/>
            </a:b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Risultati raggiunti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2209680"/>
            <a:ext cx="78487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09480" indent="-609480">
              <a:lnSpc>
                <a:spcPct val="93000"/>
              </a:lnSpc>
              <a:spcBef>
                <a:spcPts val="876"/>
              </a:spcBef>
              <a:buClr>
                <a:srgbClr val="f5090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d38b1"/>
                </a:solidFill>
                <a:latin typeface="Arial"/>
                <a:ea typeface="Times New Roman"/>
              </a:rPr>
              <a:t>Definizioni, principi e raccomandazioni gener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876"/>
              </a:spcBef>
              <a:buClr>
                <a:srgbClr val="f5090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d38b1"/>
                </a:solidFill>
                <a:latin typeface="Arial"/>
                <a:ea typeface="Times New Roman"/>
              </a:rPr>
              <a:t>La qualità nelle applicazioni Web - usabilità e accessibilità e i patter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  <a:p>
            <a:pPr marL="609480" indent="-609480">
              <a:lnSpc>
                <a:spcPct val="93000"/>
              </a:lnSpc>
              <a:spcBef>
                <a:spcPts val="876"/>
              </a:spcBef>
              <a:buClr>
                <a:srgbClr val="f50909"/>
              </a:buClr>
              <a:buSzPct val="12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d38b1"/>
                </a:solidFill>
                <a:latin typeface="Arial"/>
                <a:ea typeface="Times New Roman"/>
              </a:rPr>
              <a:t>Criteri di qualità specifici per le Applicazioni Web Culturali Pubbliche – progettazione per obiettivi e per categorie di soggetti culturali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title"/>
          </p:nvPr>
        </p:nvSpPr>
        <p:spPr>
          <a:xfrm>
            <a:off x="826920" y="549000"/>
            <a:ext cx="7772400" cy="99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LA </a:t>
            </a:r>
            <a:r>
              <a:rPr b="0" lang="en-GB" sz="1800" spc="-1" strike="noStrike">
                <a:solidFill>
                  <a:srgbClr val="0d38b1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d38b1"/>
                </a:solidFill>
                <a:latin typeface="Arial"/>
              </a:rPr>
              <a:t>QUALITA’ SECONDO IL MODELLO PROPOSTO DAL WP5</a:t>
            </a: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                          </a:t>
            </a:r>
            <a:br>
              <a:rPr sz="4000"/>
            </a:br>
            <a:r>
              <a:rPr b="1" lang="en-GB" sz="4000" spc="-1" strike="noStrike">
                <a:solidFill>
                  <a:srgbClr val="0d38b1"/>
                </a:solidFill>
                <a:latin typeface="Arial"/>
              </a:rPr>
              <a:t>            </a:t>
            </a:r>
            <a:r>
              <a:rPr b="1" i="1" lang="en-GB" sz="2800" spc="-1" strike="noStrike">
                <a:solidFill>
                  <a:srgbClr val="ff0000"/>
                </a:solidFill>
                <a:latin typeface="Arial"/>
              </a:rPr>
              <a:t>Manuale per la qualità: indice</a:t>
            </a:r>
            <a:endParaRPr b="0" lang="en-US" sz="2800" spc="-1" strike="noStrike">
              <a:solidFill>
                <a:srgbClr val="ff0000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onchini</dc:creator>
  <dc:description/>
  <dc:language>en-US</dc:language>
  <cp:lastModifiedBy>pfeliciati</cp:lastModifiedBy>
  <dcterms:modified xsi:type="dcterms:W3CDTF">2007-02-15T17:08:59Z</dcterms:modified>
  <cp:revision>27</cp:revision>
  <dc:subject/>
  <dc:title>Nessun titolo diapositiva</dc:title>
</cp:coreProperties>
</file>