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5.png" ContentType="image/png"/>
  <Override PartName="/ppt/media/image16.jpeg" ContentType="image/jpeg"/>
  <Override PartName="/ppt/media/image15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11.jpeg" ContentType="image/jpeg"/>
  <Override PartName="/ppt/media/image1.jpeg" ContentType="image/jpe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FDAB-2329-44DD-8AA1-33C265DAE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E3F2-20FE-4564-808B-073D2ED9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8415-6D48-441A-83F2-E47253A1A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A0F86-874B-4282-BA63-D69A7057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4C9C-0253-41A7-B788-E700EE028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82F-47C8-48C8-B34D-E2876990B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7C2C-F28B-454A-9346-BA405BE1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013E-F89D-4A73-AF1C-DF77D3F19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3DEF-CFA9-4B16-9885-95ABFC62F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EC95-FB97-4CCC-AB52-EB2998213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3AA7-16A8-43BF-A1DE-78FBE4BC9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A257-D27D-403C-A668-00FBDC2CF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F93DA-FEFF-47D7-9532-E5AFE8748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www.ibc.regione.emilia-romagna.it/h3/h3.exe/amuseier" TargetMode="External"/><Relationship Id="rId2" Type="http://schemas.openxmlformats.org/officeDocument/2006/relationships/hyperlink" Target="http://www.ibc.regione.emilia-romagna.it/h3/h3.exe/amuseier" TargetMode="External"/><Relationship Id="rId3" Type="http://schemas.openxmlformats.org/officeDocument/2006/relationships/image" Target="../media/image2.pn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omune.bologna.it/museoarcheologico/collezio/romana/bronz.htm" TargetMode="External"/><Relationship Id="rId2" Type="http://schemas.openxmlformats.org/officeDocument/2006/relationships/hyperlink" Target="http://www.comune.bologna.it/museoarcheologico/collezio/romana/rom1058.htm" TargetMode="External"/><Relationship Id="rId3" Type="http://schemas.openxmlformats.org/officeDocument/2006/relationships/image" Target="../media/image14.jpeg"/><Relationship Id="rId4" Type="http://schemas.openxmlformats.org/officeDocument/2006/relationships/image" Target="../media/image2.pn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hyperlink" Target="http://imago.sebina.it/SebinaOpacIMAGO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126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Garamond"/>
              </a:rPr>
              <a:t>Regioni ed Enti Locali nell’organizzazione delle informazioni e i dati per Micha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3573360"/>
            <a:ext cx="7848720" cy="24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va Florence 2007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renze 29.03.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Vincenzo Bazzocchi    IBACN - Regione E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16436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Digitalizzare oggetti …catalog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Gli oggetti da digitalizzare devono essere catalogati”</a:t>
            </a: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	</a:t>
            </a:r>
            <a:r>
              <a:rPr b="0" lang="en-US" sz="1800" spc="-1" strike="noStrike">
                <a:solidFill>
                  <a:srgbClr val="808080"/>
                </a:solidFill>
                <a:latin typeface="Garamond"/>
              </a:rPr>
              <a:t>(Linee guida tecniche per i programmi di creazione dei contenuti culturali digitali. §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a catalogazione consente di stabilire un legame con la collezione e il catalogo esisten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i fini della conservazione dell’origi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lla fruizione sia dell’originale sia della risorsa digitale prodo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6600"/>
                </a:solidFill>
                <a:latin typeface="Garamond"/>
              </a:rPr>
              <a:t>Digitalizzare … con normative di riferiment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di digitalizzazione attuati da IB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Normativa per acquisizione digitale delle immagini fotografi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(ICCD 199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Linee di indirizzo per i progetti di digitalizzazione del materi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Garamond"/>
              </a:rPr>
              <a:t>fotografico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(ICCU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Metodologie unificate per rendere in forma digitale la documentazione fotografica allegata alla scheda e consentire una visualizzazione adeguata e una identificazione corretta del be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link multimediali … negli opa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Cooperazione</a:t>
            </a:r>
            <a:r>
              <a:rPr b="1" lang="it-IT" sz="24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Garamond"/>
              </a:rPr>
              <a:t>Iniziative di digitalizzazione condivise a livello di P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53.582</a:t>
            </a: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link multimediali presenti nei 7 poli SBN in E-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Fondi fotografici sulla storia sociale e artistica dell’Emilia-Romagna appartenenti a collezioni conservate presso biblioteche Classense, Malatestiana, Comunale di Savignano, Gambalunga (</a:t>
            </a:r>
            <a:r>
              <a:rPr b="0" i="1" lang="it-IT" sz="1600" spc="-1" strike="noStrike">
                <a:solidFill>
                  <a:srgbClr val="000000"/>
                </a:solidFill>
                <a:latin typeface="Garamond"/>
              </a:rPr>
              <a:t>tra cui </a:t>
            </a:r>
            <a:r>
              <a:rPr b="0" i="1" lang="it-IT" sz="1600" spc="-1" strike="noStrike">
                <a:solidFill>
                  <a:srgbClr val="333399"/>
                </a:solidFill>
                <a:latin typeface="Garamond"/>
              </a:rPr>
              <a:t>653 foto di scena del film Amarcord di Fellin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333399"/>
                </a:solidFill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Raccolta di cartoline della città di Cervia conservate presso la biblioteca comu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Collezione di foto di attori tra ‘800 e ‘900 contenuta nel fondo Antonio Cervi conservata presso la biblioteca dell’Archiginnas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Collezione di disegni di moda di stilisti (Schuberth, Dior, Givenchy, Ferrè, Nina Ricci) e disegni di architettura (Giò Ponti, Pier Luigi Nervi, Aldo Rossi) conservata presso CSAC di P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Incisioni di scenografie di spettacoli farnesiani del Seicento conservate presso la biblioteca Palatina di Par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74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Musei E-R: sistema informativ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26920" y="4797360"/>
            <a:ext cx="792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08760" y="4702320"/>
            <a:ext cx="7923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8200" y="5891040"/>
            <a:ext cx="792000" cy="50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812000" y="5877000"/>
            <a:ext cx="79236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556080" y="2565360"/>
            <a:ext cx="216036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68360" y="1773360"/>
            <a:ext cx="2519280" cy="50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talogo be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lturali Regione E-R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87280" y="450864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824120" y="4251240"/>
            <a:ext cx="100800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643280" y="198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2987280" y="198900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635280" y="4076640"/>
            <a:ext cx="21988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use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ilia-Romag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588000" y="4292640"/>
            <a:ext cx="100836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96360" y="443700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87640" y="155736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sotto la responsabilit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40360" y="3500280"/>
            <a:ext cx="115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creato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076720" y="5013360"/>
            <a:ext cx="21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è disponibile attraver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643280" y="306864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2854440" y="3068280"/>
            <a:ext cx="1141200" cy="11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5292720" y="3068640"/>
            <a:ext cx="129528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837040" y="4508640"/>
            <a:ext cx="750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43280" y="450864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667640" y="3789360"/>
            <a:ext cx="1297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ppresenta in tutto o in p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172360" y="515772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69160" y="5508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trova press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72360" y="44370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187280" y="4508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187280" y="530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234000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79600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Portale Arti Sceni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762120" y="762120"/>
            <a:ext cx="792468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28600" y="2286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Portale Arti Sceniche. Sebina Link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" y="1873080"/>
            <a:ext cx="4995720" cy="3980160"/>
          </a:xfrm>
          <a:prstGeom prst="rect">
            <a:avLst/>
          </a:prstGeom>
          <a:ln w="0">
            <a:noFill/>
          </a:ln>
        </p:spPr>
      </p:pic>
      <p:grpSp>
        <p:nvGrpSpPr>
          <p:cNvPr id="127" name=""/>
          <p:cNvGrpSpPr/>
          <p:nvPr/>
        </p:nvGrpSpPr>
        <p:grpSpPr>
          <a:xfrm>
            <a:off x="179280" y="765000"/>
            <a:ext cx="9144000" cy="4050360"/>
            <a:chOff x="179280" y="765000"/>
            <a:chExt cx="9144000" cy="4050360"/>
          </a:xfrm>
        </p:grpSpPr>
        <p:sp>
          <p:nvSpPr>
            <p:cNvPr id="128" name=""/>
            <p:cNvSpPr/>
            <p:nvPr/>
          </p:nvSpPr>
          <p:spPr>
            <a:xfrm>
              <a:off x="179280" y="3660840"/>
              <a:ext cx="5715000" cy="304560"/>
            </a:xfrm>
            <a:prstGeom prst="rect">
              <a:avLst/>
            </a:prstGeom>
            <a:noFill/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894280" y="3813120"/>
              <a:ext cx="304920" cy="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" name=""/>
            <p:cNvGrpSpPr/>
            <p:nvPr/>
          </p:nvGrpSpPr>
          <p:grpSpPr>
            <a:xfrm>
              <a:off x="6580080" y="765000"/>
              <a:ext cx="2743200" cy="4050360"/>
              <a:chOff x="6580080" y="765000"/>
              <a:chExt cx="2743200" cy="4050360"/>
            </a:xfrm>
          </p:grpSpPr>
          <p:sp>
            <p:nvSpPr>
              <p:cNvPr id="131" name=""/>
              <p:cNvSpPr/>
              <p:nvPr/>
            </p:nvSpPr>
            <p:spPr>
              <a:xfrm>
                <a:off x="6580080" y="2289240"/>
                <a:ext cx="2743200" cy="2526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ricerca in banche    dati bibliografich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document deliver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motori di ricerc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full text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acquisto in re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enotazione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prestito loca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I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9999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it-IT" sz="1600" spc="-1" strike="noStrike">
                    <a:solidFill>
                      <a:srgbClr val="000000"/>
                    </a:solidFill>
                    <a:latin typeface="Arial"/>
                  </a:rPr>
                  <a:t>....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580080" y="2441520"/>
                <a:ext cx="0" cy="23623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7418160" y="1755720"/>
                <a:ext cx="151128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2160" rIns="92160" tIns="46080" bIns="4608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400" spc="-1" strike="noStrike">
                    <a:solidFill>
                      <a:srgbClr val="f97a07"/>
                    </a:solidFill>
                    <a:latin typeface="Myriad Pro Black"/>
                  </a:rPr>
                  <a:t>OpenUR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6961680" y="765000"/>
                <a:ext cx="2259360" cy="744120"/>
                <a:chOff x="6961680" y="765000"/>
                <a:chExt cx="2259360" cy="74412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930800" y="1137240"/>
                  <a:ext cx="1117080" cy="247680"/>
                </a:xfrm>
                <a:prstGeom prst="rect">
                  <a:avLst/>
                </a:prstGeom>
                <a:solidFill>
                  <a:srgbClr val="009999"/>
                </a:solidFill>
                <a:ln w="93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1800" rIns="91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" name=""/>
                <p:cNvGrpSpPr/>
                <p:nvPr/>
              </p:nvGrpSpPr>
              <p:grpSpPr>
                <a:xfrm>
                  <a:off x="6961680" y="765000"/>
                  <a:ext cx="2259360" cy="744120"/>
                  <a:chOff x="6961680" y="765000"/>
                  <a:chExt cx="2259360" cy="744120"/>
                </a:xfrm>
              </p:grpSpPr>
              <p:sp>
                <p:nvSpPr>
                  <p:cNvPr id="137" name=""/>
                  <p:cNvSpPr/>
                  <p:nvPr/>
                </p:nvSpPr>
                <p:spPr>
                  <a:xfrm>
                    <a:off x="7496280" y="765000"/>
                    <a:ext cx="1427400" cy="309960"/>
                  </a:xfrm>
                  <a:prstGeom prst="rect">
                    <a:avLst/>
                  </a:prstGeom>
                  <a:solidFill>
                    <a:srgbClr val="ffcc66"/>
                  </a:solidFill>
                  <a:ln w="9360">
                    <a:solidFill>
                      <a:srgbClr val="ffcc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7185960" y="1261080"/>
                    <a:ext cx="1117080" cy="248040"/>
                  </a:xfrm>
                  <a:prstGeom prst="rect">
                    <a:avLst/>
                  </a:prstGeom>
                  <a:solidFill>
                    <a:srgbClr val="b2b2b2"/>
                  </a:solidFill>
                  <a:ln w="9360">
                    <a:solidFill>
                      <a:srgbClr val="b2b2b2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1800" rIns="91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6961680" y="951120"/>
                    <a:ext cx="2259360" cy="3668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t">
                    <a:spAutoFit/>
                  </a:bodyPr>
                  <a:p>
                    <a:pPr algn="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777777"/>
                        </a:solidFill>
                        <a:latin typeface="Myriad Pro Black"/>
                      </a:rPr>
                      <a:t>Fornitori di servizi</a:t>
                    </a: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0" name=""/>
              <p:cNvSpPr/>
              <p:nvPr/>
            </p:nvSpPr>
            <p:spPr>
              <a:xfrm flipV="1">
                <a:off x="6580080" y="1374480"/>
                <a:ext cx="685800" cy="9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 flipV="1">
                <a:off x="6580080" y="1374480"/>
                <a:ext cx="1828800" cy="99036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flipV="1">
                <a:off x="6580080" y="840960"/>
                <a:ext cx="1752480" cy="152388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6122880" y="3584520"/>
              <a:ext cx="533520" cy="493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83818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80880" y="914400"/>
            <a:ext cx="84582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08040" y="406080"/>
            <a:ext cx="7967520" cy="78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6920" cy="657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752480" y="2286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bina LIN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rvizi sul documen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04920" y="914400"/>
            <a:ext cx="86868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Criticit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In molti casi la  digitalizzazione è stata avviata individualmente dalle  istituzioni culturali con motivazioni diver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fornire specifici servizi al pubbl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alvaguardare materiali a rischio di deterio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i="1" lang="en-GB" sz="2400" spc="-1" strike="noStrike">
                <a:solidFill>
                  <a:srgbClr val="333399"/>
                </a:solidFill>
                <a:latin typeface="Garamond"/>
              </a:rPr>
              <a:t>Discoteca Bruno Slawitz – digitalizzazione e restauro conservativo e filologico di 1.268 dischi in vinile a 78 giri e 300 Lp a 33 giri; riguardanti repertorio melodrammat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rendere disponibili in rete risorse culturali poco n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i="1" lang="en-GB" sz="2400" spc="-1" strike="noStrike">
                <a:solidFill>
                  <a:srgbClr val="333399"/>
                </a:solidFill>
                <a:latin typeface="Garamond"/>
              </a:rPr>
              <a:t>Istituto Gramsci di Bologna – digitalizzazione di 10.500 immagini di manifesti poli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…”</a:t>
            </a: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vetrina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ndic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Concezione unitaria del patrimonio cultur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IBC (E-R) e MiB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6666ff"/>
              </a:buClr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Garamond"/>
              </a:rPr>
              <a:t>Governance</a:t>
            </a: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 territo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Linee d’azione per la programm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Criticità dei progetti di digitalizz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Organizzazione del censimento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Primi risultati in E-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Esempi di collezioni digi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6666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6666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Criticità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La consapevolezza dei governi di poter avere un ruolo attivo nell’ organizzazione di queste  attività nei loro territori è apparsa come un secondo pas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olitiche su digitalizzazione dei patrimoni : esperienze e standard già determinanti a questo livel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grammi : stabilire priorità e forme di coordinam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Garamond"/>
              </a:rPr>
              <a:t>Progetti : risultati attesi e verifica soddisfazione u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Garamond"/>
              </a:rPr>
              <a:t>Organizzazione censim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Fonti di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3   indagine esplorativa (poli SBN in E-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4   dati del censimento biblioteche di Ente locale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dell’E-R [2006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5   ricognizione collezioni digitali per progetto Micha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6   dati tratti da “Musei dell’E-R” + informazioni  interne su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speci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2006   collaborazione con Direzione regionale Beni cultura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-40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AutoNum type="arabicPlain" startAt="200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…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inuo aggiornamento mediante disseminazione della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oscenza del progetto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0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723600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Contenuti censi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llezioni digitali    1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Istituzioni   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llezioni fisiche   6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rvizi   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Progetti   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lle bibliotech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Ib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ha censito 466 bibliotec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ha rilevato nel censimento delle biblioteche di enti locali le collezioni digitali ( Sibib 200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censimento Micha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ggetti digitali presenti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ltre 2.000.000  (al 23-0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oltre 70 filma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70 ore di film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800" spc="-1" strike="noStrike">
                <a:solidFill>
                  <a:srgbClr val="000000"/>
                </a:solidFill>
                <a:latin typeface="Garamond"/>
              </a:rPr>
              <a:t>schede di cataloghi (difficilmente quantificabil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i musei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IB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censito in E-R </a:t>
            </a: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 470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muse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realizzato il Progetto “</a:t>
            </a:r>
            <a:r>
              <a:rPr b="0" i="1" lang="it-IT" sz="2000" spc="-1" strike="noStrike">
                <a:solidFill>
                  <a:srgbClr val="333399"/>
                </a:solidFill>
                <a:latin typeface="Garamond"/>
              </a:rPr>
              <a:t>Catalogo dei beni culturali della regione Emilia-Romagna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333399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ha reso disponibile la banca dati </a:t>
            </a:r>
            <a:r>
              <a:rPr b="0" i="1" lang="it-IT" sz="2000" spc="-1" strike="noStrike">
                <a:solidFill>
                  <a:srgbClr val="6666ff"/>
                </a:solidFill>
                <a:latin typeface="Garamond"/>
              </a:rPr>
              <a:t>“Musei dell’Emilia-Romagna</a:t>
            </a:r>
            <a:r>
              <a:rPr b="0" lang="it-IT" sz="2000" spc="-1" strike="noStrike">
                <a:solidFill>
                  <a:srgbClr val="6666ff"/>
                </a:solidFill>
                <a:latin typeface="Garamond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www.ibc.regione.emilia-romagna.it/h3/h3.exe/</a:t>
            </a:r>
            <a:r>
              <a:rPr b="0" lang="it-IT" sz="20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amuseier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che raccogli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82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llezion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82 collezioni fis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82 istitut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99"/>
                </a:solidFill>
                <a:latin typeface="Garamond"/>
              </a:rPr>
              <a:t>Censimento Michael :</a:t>
            </a:r>
            <a:r>
              <a:rPr b="0" lang="it-IT" sz="2000" spc="-1" strike="noStrike">
                <a:solidFill>
                  <a:srgbClr val="6666ff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la previsione stimata è 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68.630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zzati e catalogati (norme ICCD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-185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808080"/>
                </a:solidFill>
                <a:latin typeface="Garamond"/>
              </a:rPr>
              <a:t>Museo Internazionale delle Ceramiche di Faenza : 37.791 immagin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96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25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4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 dati dei muse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Nella banca dati </a:t>
            </a:r>
            <a:r>
              <a:rPr b="0" i="1" lang="en-US" sz="2400" spc="-1" strike="noStrike">
                <a:solidFill>
                  <a:srgbClr val="6666ff"/>
                </a:solidFill>
                <a:latin typeface="Garamond"/>
              </a:rPr>
              <a:t>Musei dell’Emilia-Romagna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” oltre al “</a:t>
            </a:r>
            <a:r>
              <a:rPr b="0" i="1" lang="en-US" sz="2400" spc="-1" strike="noStrike">
                <a:solidFill>
                  <a:srgbClr val="333399"/>
                </a:solidFill>
                <a:latin typeface="Garamond"/>
              </a:rPr>
              <a:t>Catalogo dei beni culturali …”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rovano post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Gallerie fotografiche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48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collezioni digitali  ( non coll. fisich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409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immagini digitali    (non cataloga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Garamond"/>
              </a:rPr>
              <a:t>Siti web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Garamond"/>
              </a:rPr>
              <a:t>73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creati dai singoli istitu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immagini digitali (censimento in cors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Elaborazioni e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Numero dei progetti </a:t>
            </a:r>
            <a:r>
              <a:rPr b="1" lang="it-IT" sz="3200" spc="-1" strike="noStrike">
                <a:solidFill>
                  <a:srgbClr val="000000"/>
                </a:solidFill>
                <a:latin typeface="Garamond"/>
              </a:rPr>
              <a:t>non</a:t>
            </a: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 è un indicatore di progettualità o programmazione  condivisa o capacità di policy perché si tratta di progetti e servizi condivisi o coordinat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Garamond"/>
              </a:rPr>
              <a:t>La totalità ( o quasi) delle collezioni digitali rappresentano una ( o parte) di una collezione fisica.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ipo di access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 dati on line:  21  (7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utti con protocollo htt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D Rom 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DVD 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Basi dati off line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gua servizi access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(solo): 19 (67%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inglese: 5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latino: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 e francese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aliano, inglese e tedesco: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bblico di rifer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nerico: 13 (46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erca: 11 (4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e: 4  (14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BC</a:t>
            </a:r>
            <a:r>
              <a:rPr b="0" lang="en-US" sz="4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Garamond"/>
              </a:rPr>
              <a:t>Codice di beni culturali (art. 17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): concorso delle regioni nella definizione di “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metodologie comuni di raccolta, scambio, accesso ed elaborazione dei dati a livello nazionale e di </a:t>
            </a:r>
            <a:r>
              <a:rPr b="1" i="1" lang="en-US" sz="2000" spc="-1" strike="noStrike">
                <a:solidFill>
                  <a:srgbClr val="000000"/>
                </a:solidFill>
                <a:latin typeface="Garamond"/>
              </a:rPr>
              <a:t>integrazione in rete delle banche dati</a:t>
            </a: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 dello Stato, delle regioni e degli altri enti pubblici territoriali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5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IBC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fin dalla sua costituzione (1974) e con continuità ha sempre svolto  attività conoscitive e di standardizzazio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rodotto censi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raccolto documen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finanziato e/o gestito inventariazioni e catalogh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definito metodologie comuni e protocolli di catalogazion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messo a disposizione strumenti di ricerca e recupero delle informazioni per l’elaborazione di politiche regionali in materia di beni culturali e consulenza alla programmazione territoriale degli enti local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0">
              <a:lnSpc>
                <a:spcPct val="80000"/>
              </a:lnSpc>
              <a:spcBef>
                <a:spcPts val="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Garamond"/>
              </a:rPr>
              <a:t>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Serviz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izioni di access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utti “liberi e gratuiti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o in </a:t>
            </a:r>
            <a:r>
              <a:rPr b="0" i="1" lang="en-US" sz="3200" spc="-1" strike="noStrike">
                <a:solidFill>
                  <a:srgbClr val="6666ff"/>
                </a:solidFill>
                <a:latin typeface="Arial"/>
              </a:rPr>
              <a:t>La storia sui muri: gli stemmi dell’Archiginnasi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’accesso è subordinato alla “registrazione” per accedere alla ricerca avanz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Archivio Chaplin – Cineteca di Bologn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aramond"/>
              </a:rPr>
              <a:t>CharlieChaplin Arch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51"/>
              </a:spcBef>
              <a:buClr>
                <a:srgbClr val="6666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6666ff"/>
                </a:solidFill>
                <a:latin typeface="Garamond"/>
              </a:rPr>
              <a:t>Chaplin Project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che dal 1999 è promosso congiuntamente dalla Cineteca del Comune di Bologna e dall’Association Chap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Restauro dell’opera cinematograf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Catalogazione e digitalizz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dell’archivio cartaceo (sceneggiature, copioni, manoscritti, bozzetti, disegni di set, fotografie, contratti, appunti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00.000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immagini;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8.800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schede catalografi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talogazione secondo standard ISBD , AACR2 e per le foto: 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La fotografia : manuale di catalogazione,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a cura  di G. Benassati (IBC Regione E-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On line accesso alle descrizioni catalografiche e alle prime 5 pagine di ogni documento ; il fondo è interamente consultabile on si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51640" y="1484280"/>
            <a:ext cx="1000080" cy="1238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140360" y="1628640"/>
            <a:ext cx="1238040" cy="90504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5796000" y="1628640"/>
            <a:ext cx="1238040" cy="90504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4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5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Museo civico archeologico di Bologna  Collezione romana</a:t>
            </a: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escrizione: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La collezione di antichità romane del Museo Archeologico trae origine in parte da sca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ffettuati a Bologna e nel suo territorio ed in parte da nuclei collezionistici, in particolare le raccol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Universitaria e Palag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Lingu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tal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Forma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ML ; JP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ipo di documen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mmagine fissa ; T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mension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66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em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Archeologia, numismatica ed epigraf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iod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Roma a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ultur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Civiltà rom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opertura geografic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ata iniziale e fin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-189-3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stata creata d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Si trova press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disponibile attravers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tp://www.comune.bologna.it/museoarcheologico/collezio/collez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Rappresenta in tutto o in part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Collezione romana del Museo civico Archeologico di Bolog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3"/>
          <a:stretch/>
        </p:blipFill>
        <p:spPr>
          <a:xfrm>
            <a:off x="5292720" y="2565360"/>
            <a:ext cx="274320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Museo civico archeologico di Bolog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Collezioni | Romana | Bronzetti </a:t>
            </a: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Statuetta di Mercurio</a:t>
            </a:r>
            <a:r>
              <a:rPr b="1" lang="en-US" sz="16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Garamon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Garamond"/>
                <a:hlinkClick r:id="rId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rcurio è il dio romano identificato con l'Ermes greco, l'astu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essaggero degli dei, figlio di Zeus, incaricato di fare da intermedia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tra il mondo degli uomini e quello degli dei. E' la divinità che proteg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 commercianti e i viaggiatori. I suoi attributi sono il caduceo, la verg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mbolica degli araldi, il petaso, il cappello a larga tesa con le ali, i sand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alati e una borsa, simbolo del guadagno ricavato dalle attività mercanti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La statuetta raffigura il dio in posizione di riposo, con le gambe incrociate, appoggiato c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braccio sinistro ad un sostegno, ora scomparso.    Indossa il petaso alato, e porta un cor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mantello avvolto alla spalla e al braccio sinistro;   con la mano destra stringe la borsa, nel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sinistra aveva probabilmente il caduceo.E' un bronzetto di buona fattura attribuibile a u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officina romana della prima età imperia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ATAZIONE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seconda metà del I secolo a.C. - prima metà del I secolo d.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MATERIALE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bronz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DIMENSIONI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altezza cm 22,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Garamond"/>
              </a:rPr>
              <a:t>PROVENIENZA:</a:t>
            </a: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 Collezione Universitaria. Da Castelvetro (Moden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Garamond"/>
              </a:rPr>
              <a:t>Inventario: Rom 15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732720" y="1197000"/>
            <a:ext cx="1003320" cy="2286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4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IMA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Catalogo collettivo di opere grafiche (stampe, disegni, fotografie, manifesti, figurine, etc.) e cartografia di Biblioteche, Archivi e Musei della regione Emilia-Romag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Messo in rete dal novembre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 opere catalogate -</a:t>
            </a:r>
            <a:r>
              <a:rPr b="0" lang="en-US" sz="1800" spc="-1" strike="noStrike">
                <a:solidFill>
                  <a:srgbClr val="008080"/>
                </a:solidFill>
                <a:latin typeface="Garamond"/>
              </a:rPr>
              <a:t>incisioni, disegni, figurine, fotografie, cartografia</a:t>
            </a:r>
            <a:r>
              <a:rPr b="0" lang="en-US" sz="1800" spc="-1" strike="noStrike">
                <a:solidFill>
                  <a:srgbClr val="009999"/>
                </a:solidFill>
                <a:latin typeface="Garamond"/>
              </a:rPr>
              <a:t>,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etc.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di autori italiani e stranieri dal XV al XX secolo, sono ad oggi circa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200.00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 descrizione delle fotografie ha seguito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La fotografia. Manuale di catalog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, a cura di G. Benassati, Bologna, 1990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Per la cartografia si sono utilizzati, con integrazioni nell'area della descrizione fisica, </a:t>
            </a:r>
            <a:r>
              <a:rPr b="0" i="1" lang="en-US" sz="1800" spc="-1" strike="noStrike">
                <a:solidFill>
                  <a:srgbClr val="000000"/>
                </a:solidFill>
                <a:latin typeface="Garamond"/>
              </a:rPr>
              <a:t>ISBD(CM): International Standard Bibliographic Description for Cartographic Material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a cura dell'ICCU, Roma, ICCU, 199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10.000 immagini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</a:rPr>
              <a:t>digitalizzat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hanno visto l’utilizzo del formato Kodak Photo Cd amatoriale. Sono stati creati master TIFF ad alta definizione (3000x2000 pixel) poi compressi (800x600) in formato JPG per la visualizzazione su web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e immagini sono protette da una </a:t>
            </a:r>
            <a:r>
              <a:rPr b="0" lang="en-US" sz="1800" spc="-1" strike="noStrike">
                <a:solidFill>
                  <a:srgbClr val="6666ff"/>
                </a:solidFill>
                <a:latin typeface="Garamond"/>
              </a:rPr>
              <a:t>filigrana digital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realizzata con il software “Batch.It!Ultra”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sulta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Il catalogo in linea fornisc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accessi 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multipli: attraverso ricerche per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autore –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con e senza codici di ruolo-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, titolo, soggetto, classe, immagini digitali colleg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videnzia numerosi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legam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: da quelli strettamente connaturati alla produzione grafica quali: </a:t>
            </a:r>
            <a:r>
              <a:rPr b="0" i="1" lang="en-US" sz="2800" spc="-1" strike="noStrike">
                <a:solidFill>
                  <a:srgbClr val="000000"/>
                </a:solidFill>
                <a:latin typeface="Garamond"/>
              </a:rPr>
              <a:t>Stato, Copia, Controparte, Replica, Variante, Reimpiego, Traduzione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a quelli pertinenti i rapporti tra i materiali grafici ed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aramond"/>
              </a:rPr>
              <a:t>altre tipologie di documenti</a:t>
            </a: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 : librari , archivistici, musicali e multimedi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mago p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Lanciando la ricerca nel portale </a:t>
            </a:r>
            <a:r>
              <a:rPr b="0" lang="en-US" sz="1800" spc="-1" strike="noStrike">
                <a:solidFill>
                  <a:srgbClr val="333399"/>
                </a:solidFill>
                <a:latin typeface="Garamond"/>
              </a:rPr>
              <a:t>Imago </a:t>
            </a:r>
            <a:r>
              <a:rPr b="0" lang="en-US" sz="1800" spc="-1" strike="noStrike">
                <a:solidFill>
                  <a:srgbClr val="cc3300"/>
                </a:solidFill>
                <a:latin typeface="Garamond"/>
              </a:rPr>
              <a:t>plus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è possibile la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aramond"/>
              </a:rPr>
              <a:t>contemporanea interrogazione</a:t>
            </a: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 di cataloghi e banche dati contenenti analoghe tipologie di materiali o considerate alla stregua di fonti utili alla ricerca ed al lavoro di catalogazio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843280" y="2781360"/>
            <a:ext cx="2448000" cy="295128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Raccolta Maria Luigia d’Asburgo - Par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escrizion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mmagini e schede descrittive relative a testimonianze storich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 artistiche raccolte dal collezionista Glauco Lombardi su Maria Luigia D'Asbur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e Napoleone Bonaparte oltre a numerose opere e documenti relativi al Ducato d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Parma nei secoli XVIII e XI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Lingu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Itali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Forma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ML ; JP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ipo di documento digit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Immagine fissa ; t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ritt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Tutti i diritti riserva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imensioni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1.500 immagini cir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Tem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Numismatica ; Artigianato ; Fotografia ; Grafica ; Miniatura ; Scultura ; Pittura ; Storie naz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iodo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Età napoleonica : Ottoc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Copertura geografica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: Piacenza ; Parma ; Austria ; Francia ; Ital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Data iniziale e finale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1708-187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Personaggi famosi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aria Luigia D’Asburgo ; Napoleone Bonapar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stata creata da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Glauco Lombardi di Parma</a:t>
            </a: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Si trova presso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Museo Glauco Lombardi di Parm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E’ disponibile attraverso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http://www.fondazionemonteparma.it/sitolombardi/default.as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Garamond"/>
              </a:rPr>
              <a:t>Rappresenta (in tutto o in parte)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: Raccolta di documenti storico e artistici su Maria Luigia d’Asburgo  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Garamond"/>
              </a:rPr>
              <a:t>Napoleone Bonaparte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2038320" cy="194472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738036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3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Eventi di presentazion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Dossier “Le collezioni digitali nell’ambito dei programmi regionali” ( italiano-inglese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onvegno internazionale Michael : Bologna febbraio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6600"/>
                </a:solidFill>
                <a:latin typeface="Garamond"/>
              </a:rPr>
              <a:t>Patrimonio culturale: una concezione unitaria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Codice dei beni culturali e del paesaggio” (D. Lgs. 22 gennaio 2004, n. 42 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art. 17: concorso delle regioni nella definizione di “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metodologie comuni di raccolta, scambio, accesso ed elaborazione dei dati a livello nazionale e di </a:t>
            </a:r>
            <a:r>
              <a:rPr b="1" i="1" lang="it-IT" sz="2000" spc="-1" strike="noStrike">
                <a:solidFill>
                  <a:srgbClr val="000000"/>
                </a:solidFill>
                <a:latin typeface="Garamond"/>
              </a:rPr>
              <a:t>integrazione in rete delle banche dati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 dello Stato, delle regioni e degli altri enti pubblici territoriali.”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66640" indent="-566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orme in materia di biblioteche archivi storici musei e beni culturali”  (L.R. 24.08.2000 n. 18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Convenzioni per lo sviluppo del SBN  (1984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rogramma regionale degli interventi in materia di biblioteche, archivi storici, musei e beni culturali. Obiettivi, linee di indirizzo e procedure per il triennio 2004-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21240" indent="-49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"Standard e obiettivi di qualità per biblioteche, archivi storici e musei"</a:t>
            </a: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 (Direttiva , marzo 2003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IB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operazione con MiBA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rapporto costante con istituti tecnici nazionali e partecipazione a progetti nazionali e inter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Garamond"/>
              </a:rPr>
              <a:t>Sbn ; Bdi (e Ntc) ; Umt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000000"/>
                </a:solidFill>
                <a:latin typeface="Garamond"/>
              </a:rPr>
              <a:t>Minerva; Michael e Michael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capacità di proposte metodologiche, tecnologiche, organizz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llaborazione istituzionale con altre regioni, università, e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artecipazione a progetti europei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Cerl;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Museums tell many stories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“;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Lifelong Museum Learning (LLML), ecc.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A livello regionale una regia istituziona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rammazione negoziata con il territorio secondo una governance distribu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ualità tecnolo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applicazione accurata di standard e protocolli condiv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ogetti di servizi innov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controllo delle metodologie e standard</a:t>
            </a: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ndirizzo e programmazione regionale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IB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iano triennale 2006-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iani Bibliotecari e Muse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Sviluppo Sebina Open libra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polo RER di Sb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Sibib (sistema informativo sulle biblioteche) e standard qualit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biblioteche digitali e “port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“Musei in Emilia-Romagna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24812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Gestione progetti specifici (banca dati restauri; arte scultorea; sul microclima dei musei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-222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Garamond"/>
              </a:rPr>
              <a:t>Piano telematico regiona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viluppo servizi innovativ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Single sign 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Portale multicanale E-R ( in progett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79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91360" indent="-178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Garamond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Governance territoria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Garamond"/>
              </a:rPr>
              <a:t>Strateg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200" spc="-1" strike="noStrike">
                <a:solidFill>
                  <a:srgbClr val="000000"/>
                </a:solidFill>
                <a:latin typeface="Garamond"/>
              </a:rPr>
              <a:t>Progettualità condivis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li Sb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portali anche tematic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pogli periodic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opac arricchit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collezioni digital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Garamond"/>
              </a:rPr>
              <a:t>sistemi informativi di anagrafe bibliotecaria integrati con i servizi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9900"/>
                </a:solidFill>
                <a:latin typeface="Garamond"/>
              </a:rPr>
              <a:t>Esiste un nesso tra la forma della rete e il contenuto delle scelte pubbl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Un’infrastruttura di servizi e di comunicazione (Sebina OpenLibrar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Garamond"/>
              </a:rPr>
              <a:t>Linee d’azione per la digitalizz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Standard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 correlati alla catalog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Coope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Oggetti digitali collegati come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link multimedi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la gestione bibliografica Sbn e consultabili dagli Opac collettivi dei rispettivi poli loc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 catalogo collettivo “Imago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Garamond"/>
              </a:rPr>
              <a:t>nella banca dati “Musei in Emilia-Romagn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99"/>
                </a:solidFill>
                <a:latin typeface="Garamond"/>
              </a:rPr>
              <a:t>Interoperabil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Infrastruttura integrata di accesso a contenuti e servizi generati da archivi biblioteche musei mediante Portale regionale beni culturali e portali tematici: 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Imago plus, Arti sceniche, Le chiavi di casa Artusi</a:t>
            </a:r>
            <a:r>
              <a:rPr b="0" lang="it-IT" sz="20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0" i="1" lang="it-IT" sz="2000" spc="-1" strike="noStrike">
                <a:solidFill>
                  <a:srgbClr val="000000"/>
                </a:solidFill>
                <a:latin typeface="Garamond"/>
              </a:rPr>
              <a:t>Open search Sebin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6391440"/>
            <a:ext cx="1295280" cy="4665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7093080" y="6086520"/>
            <a:ext cx="15620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2T11:23:23Z</dcterms:created>
  <dc:creator>RER</dc:creator>
  <dc:description/>
  <dc:language>en-US</dc:language>
  <cp:lastModifiedBy>pgs</cp:lastModifiedBy>
  <dcterms:modified xsi:type="dcterms:W3CDTF">2007-03-29T14:51:52Z</dcterms:modified>
  <cp:revision>89</cp:revision>
  <dc:subject/>
  <dc:title>Regioni ed EL nell’organizzazione delle informazioni e dati per Michael</dc:title>
</cp:coreProperties>
</file>